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AF9-E439-40A8-AE05-42E0B2E6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F83-84FA-4E57-A146-294693F0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EB9-466E-4207-AD2B-15B0EDDB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D41-65A0-4E5D-8810-E0981071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49D-2967-493F-8D74-A4EC5F8B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760-CACF-4062-85C6-2F760BB1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A64-734F-4D39-B195-331F0540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705-B5B0-4299-B908-0BFBB2AA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F00-46E9-47C7-AFD3-9BDEC91A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AED-04A6-428E-9AE0-1F25DEC3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457-57F6-49BF-A4C3-6C80AAF0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BB4-B7ED-4D55-A34A-79A18FD5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72D5-E923-495A-99F9-D1A5F771A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abatha C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3505320" y="457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6668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polis.bmp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743200" y="45720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990720" y="1371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philoserphy.bmp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3124080" y="380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pen.bmp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21337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2743200" y="6858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1828800" y="1447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Athens Spar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pelo.bmp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3048120" y="83808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0" y="1600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oligarchy.bmp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657600" y="5335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2057400" y="1219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abor.bmp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cropolis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6" descr="agora.jpg"/>
          <p:cNvPicPr/>
          <p:nvPr/>
        </p:nvPicPr>
        <p:blipFill>
          <a:blip r:embed="rId1"/>
          <a:stretch/>
        </p:blipFill>
        <p:spPr>
          <a:xfrm>
            <a:off x="14400" y="1676520"/>
            <a:ext cx="91296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3429000" y="3049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1981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 on issues that 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assembly.bmp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3733920" y="3049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752480" y="106668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itizen.bmp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505320" y="304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olony.bmp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819520" y="4572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demoxcy.bmp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733920" y="457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 in a court of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jury.bmp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9718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752480" y="1600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onarchy.bmp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3T00:36:00Z</dcterms:modified>
  <cp:revision>93</cp:revision>
  <dc:subject/>
  <dc:title>Ancient Greece</dc:title>
</cp:coreProperties>
</file>